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88CF-42CD-4FC5-8835-7C862E337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AF2E-B3C1-41F5-A523-13FC25E2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32610C-721C-4D14-9373-849BD6AF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A3AFA4-801C-43AD-915C-22D12D78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25D87A-2B94-44BF-99E6-D495A11E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7D5730-4A2E-493A-82A5-CBA5EC06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97091-D07B-4026-9957-460548E1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6A237-60F3-4E0B-8AFD-7C04AD00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BD44EE-D4F2-4B22-B9A1-9392BC2E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5AEE44-6D8A-4B42-93FD-885AA65E7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F884E9-B9DA-45C2-8B34-3703CC7DE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35378C-22F4-4743-82CE-B4896E800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4D52-E7AA-4FDD-B2BD-CBE7444DA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5B05D6-D907-4D4C-8D9C-DCBAC6E18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16A112-B1D9-4FD0-A251-21075D1C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C48668-DBA5-47E1-9E3E-107B121E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865C9E-9269-44E1-B52F-BB954112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085BCD-21AB-4F67-B226-8352B16A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05FD3D-3EC8-4D16-AEC4-55DFEDB3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E4EC06-1518-454C-816D-84F148FC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A98C58-0D2A-481C-B6EB-D53A4CDC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D13D78-8E76-4CF3-A306-E4555B95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359621-67DB-4614-A222-713C1480B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B8E6-6863-4276-912B-83939819B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96CE62-4446-4EB8-99EC-AE079F4A5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54909-74A5-48E5-B883-51FA774EF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9EEF6-2D09-4361-B608-5A4C210B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0074CB-F843-4378-BDCC-EF480C5B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1E63ED-75DA-468D-B449-D82DE793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55FE07-5001-4B55-8641-663879AF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1DA601-6E8E-4DDE-B3FC-D677D7DB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0C0CCB-CB60-4AD2-8427-22068F3C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40655-8524-4DF7-838C-46E2F946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D06781-C904-46BA-8755-5FF9831D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5B1C4-50E1-40CB-AC78-4A9725CA1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27D12D-9E92-456D-9C1A-C69071B5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65C85A-BCC7-4B79-BF19-4B393A7DF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C6F83B-9B36-42FC-BF6E-324AAA2A5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E75FE8-FDE5-4001-B22B-271A254DA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4DF7CF-3251-479B-BA2F-1400EF28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174AC7-1EC1-4F0D-A347-D5D27BCF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959E9E-9199-40B2-A269-1E55D720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07A4E2-2A0B-44FB-93CF-1B473144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DF2086-572E-4C60-BF4F-CB7A1FAE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CC0F63-CBCB-42E9-B8DD-B754A66B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8474-9701-4016-89A0-5F551EFB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1AC4BB-A9D4-4E19-BB54-77340D6D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403694-58B8-4B61-A006-D60B8682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CD04E8-F14D-4CDB-9679-395922ED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1EFF84-60CD-4A83-99F1-650C5D275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B253D8-DB5A-46C6-8A49-CBCBA538F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3219-CC95-4FEE-96B0-97A5FA2F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27A5F-1F07-4C71-B0F4-F05FD39D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BA33-77EF-4ED1-B303-B665144C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7630-49DC-4645-A2E6-B6402A5E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B275-CCCA-450C-B637-BB2C51F0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45DC-56BD-4761-9F5C-F9850E35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8864-A1A8-462F-9B75-5B04C21A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FC51-0FDC-4836-8F59-40576D7C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694B-C299-4490-B72C-37E49973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75B1-AEA9-401C-9C43-13E6F6CAF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2DE5-BE96-4AD4-A70E-6A212CFA2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586A1-67B4-47C2-ADE0-6C4DE61B1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8FACC-2021-429A-B568-A031EA8A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7B132-195D-46E2-A51E-983BF2CC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48FD2-A30A-4CF9-BB18-3E59847E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42B63-8CA9-4EE1-87BC-40BA94BA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7B14-7CE0-47E0-B2EE-28CAE681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40D26-CB1B-4FD2-951D-54EBEFB2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2A5CD-4D4A-4E22-B5D0-B33118B5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8E51F-BEBA-4488-B94F-61A24A0A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168FB-3EBE-4D92-8461-4A4B1B97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D1E0B-F7A6-4417-BA54-A5EC8B30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81CB9-CBF7-4D9F-8542-DC8C129A2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E14C6-D0A0-4B22-AC25-0AB5FD19C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284D5-5BCD-468A-B992-8C8B46D50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D889C-9A70-4521-BE04-6F1073A9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5B8ED-B37C-43D6-BBDA-A8FC4D43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C9CE-23AF-414A-8E8D-66978676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DC745-F35C-4EDA-B92A-C3363554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1C934-2196-4373-9A51-A562ABDE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F0C06-663A-4559-B4FE-345802F9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75A2C-F18F-4DD4-9B52-899C29CA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B795D-5B8C-4FE7-B599-4B7D1F29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62C6B-FA99-44E4-BC29-351EDF83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ABC9E-4E66-4DBA-9734-451CC74D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AF75A-0DD7-4EDD-AE7B-6580FB56F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B1303-96C9-4CCD-A4B3-881324462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30D24-FE86-47CF-A6E9-108B2F1D8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D97F-14D7-448A-ADF5-C41A64BE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65B63-BECA-4B89-995D-768D4511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78CA8-5B52-417E-8808-53F88F5B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AD439-5C3C-4F3E-A1F6-753C3B60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F869B-A5B5-4F25-9EEA-40DFCF52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D51BE-1A2E-48C8-BFB4-8CDDD45E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901B5-DFA1-4974-948B-5393C303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9411B-92F8-4C5D-B51D-DC8A4899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9029A-F06C-4022-97F1-D3D36CE0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02FEB-A030-4A8E-AE72-A2C7E6AA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5D20A-C3BE-4812-B9C6-0E3A15253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C112-5FFA-499C-AFDC-7C8F04A0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95C5C-DB01-4EB1-8E03-C5745D521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2EF41-F37C-45F6-965C-EAAC12645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60637-A6F6-4009-90D6-4C709452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14138-3A16-4574-87D5-B21BF61B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71388-4BC3-4F8F-B565-4E941081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5A30B-14F1-48F5-AEE0-B153A8A9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4CA38-55EE-4CF1-B5A9-D85E6CFB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D0167-24CE-41F1-846B-762FA9FC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827E3-2965-4E41-8C42-BAB47A50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47A51-BAAA-4AD0-9D3B-1C269808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F254-2FCA-4F42-A1CF-8EE36766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C0CD7-7C2F-4CEA-BBCA-315135BC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3F538-DA00-428C-92EF-257DD2598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CF8A2-6BD0-4B36-BAD0-BE0C5670D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CECE8-E171-46BD-AA51-18C4D32AD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F65E5-96B3-4818-BBAD-5F8D2C79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D2881-6D36-442C-8CC1-59F72F40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8D704-B40B-4A7A-A3E8-22D4D1E5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244D8-E5A8-49AF-81E2-DF468AED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51F8C-F431-489C-B6B2-816AFB1C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61E3A-002A-43FB-89F9-37C32503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8B08-566D-4D30-AD6F-F482978F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5C372-53F5-4B05-9894-4BF99CBD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52B0A-DB75-4253-824A-2DDBBF90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3BE6A-A6CB-41EB-91D3-644628B3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CA775-47F9-48C1-BDB5-858EDD478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8324E-02F9-4AEE-8C3D-9EEB6CBA9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54537-7CBE-4F4F-89B9-0C7504ACE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3E58B-6C31-4F03-9F11-820DF1D5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2FBD6-A0DB-4B25-A928-FAAEFC0E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680D7-FB1D-4DB5-8A16-8D884284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1CE83-9456-4B2E-B576-57708D8C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087C-530B-415E-9AC4-6C38EB07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8C7BD-54EC-4AEB-98CD-897B1BBA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4F1BE-E1E0-48F1-8ECF-95D4BE1F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A1E5B-B4DD-4A0A-92FB-3FC1B653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C032D-E33E-4DC3-A344-6C3F28A1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E17D4-E2A5-4FBF-A6D7-7E50F977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EBAAC-22D5-4057-B7CD-0AE83C491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13D4A-95A9-47B6-B184-F6F4CD2BA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A4CF91-3A7F-4967-91CC-0AD367604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4ADE2B-7BDC-493D-A043-A7E29F2F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B903C7-0F98-4AC1-A69F-629EBCC1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EBAF-4C4B-43F4-AC62-03ACF1837FD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31B1-1DCE-4AAA-897D-F5E78571CF9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2F3B-377A-4FF5-BC4D-5AFC8972765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2F53-E929-42A8-900F-F1E55DA5522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B1A6-0FC5-4BB9-A2F9-9343809FAAF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495F-F424-4C31-A488-9A84336DC16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EE65-A563-4947-A077-FF073661C3A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0559-7857-46CA-9538-0C92AAF4F26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E310-B32A-4016-AA8E-556E932CCF7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49A7-526D-4917-B323-F7197F2EE71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EEA2-B12F-4641-8556-E734892536D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487A-57BD-4EA1-B711-850CA22E056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rosv.ru/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e36406"/>
                </a:solidFill>
                <a:uFillTx/>
                <a:latin typeface="Calibri"/>
              </a:rPr>
              <a:t>Сложноподчиненные предложени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3314880" y="3786120"/>
            <a:ext cx="582912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4204"/>
                </a:solidFill>
                <a:latin typeface="Calibri"/>
              </a:rPr>
              <a:t>Авторы: Иванова Ирина, Попова Мария, Павлов Константин. 9 «в» класс, г. Сыктывкар. Пушкинская гимназ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0092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204"/>
                </a:solidFill>
                <a:latin typeface="Calibri"/>
              </a:rPr>
              <a:t>Примеры СПП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999720"/>
            <a:ext cx="804384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98420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Деревня, </a:t>
            </a:r>
            <a:r>
              <a:rPr b="0" i="1" lang="ru-RU" sz="2400" spc="-1" strike="noStrike">
                <a:solidFill>
                  <a:srgbClr val="984204"/>
                </a:solidFill>
                <a:latin typeface="Calibri"/>
              </a:rPr>
              <a:t>где скучал Евгений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, была прелестный уголок. СПП с придаточным определительн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98420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Дядюшка пел так, </a:t>
            </a:r>
            <a:r>
              <a:rPr b="0" i="1" lang="ru-RU" sz="2400" spc="-1" strike="noStrike">
                <a:solidFill>
                  <a:srgbClr val="984204"/>
                </a:solidFill>
                <a:latin typeface="Calibri"/>
              </a:rPr>
              <a:t>как поет простой народ.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СПП с придаточным обстоятельственным (образа действ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98420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Он знал,</a:t>
            </a:r>
            <a:r>
              <a:rPr b="0" i="1" lang="ru-RU" sz="2400" spc="-1" strike="noStrike">
                <a:solidFill>
                  <a:srgbClr val="984204"/>
                </a:solidFill>
                <a:latin typeface="Calibri"/>
              </a:rPr>
              <a:t> что основа всего – нравственность.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СПП  с придаточным изъяснительны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98420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Его не было дома, </a:t>
            </a:r>
            <a:r>
              <a:rPr b="0" i="1" lang="ru-RU" sz="2400" spc="-1" strike="noStrike">
                <a:solidFill>
                  <a:srgbClr val="984204"/>
                </a:solidFill>
                <a:latin typeface="Calibri"/>
              </a:rPr>
              <a:t>почему я и оставил записку.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СПП с придаточным присоедин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98420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84204"/>
                </a:solidFill>
                <a:latin typeface="Calibri"/>
              </a:rPr>
              <a:t>Если солнце не потушат,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будут зайчики всегда. СПП с придаточным обстоятельственным (уступки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204"/>
                </a:solidFill>
                <a:latin typeface="Calibri"/>
              </a:rPr>
              <a:t>Информационные ресурс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d0d0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Calibri"/>
                <a:hlinkClick r:id="rId1"/>
              </a:rPr>
              <a:t>http://www.prosv.ru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d0d0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alibri"/>
              </a:rPr>
              <a:t>http://www.lingvotech.com/klasssp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d0d0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Бабайцева В. В., Чеснокова Л. Д. Русский язык. Теория. 5-9 клас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d0d0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Бунеев Р. Н., Бунеева Е. В Русский язык. Учебник для 9 класса основной школы. – М. : 2006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11512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84204"/>
                </a:solidFill>
                <a:latin typeface="Calibri"/>
              </a:rPr>
              <a:t>Культура речи </a:t>
            </a:r>
            <a:r>
              <a:rPr b="0" lang="ru-RU" sz="4400" spc="-1" strike="noStrike">
                <a:solidFill>
                  <a:srgbClr val="984204"/>
                </a:solidFill>
                <a:latin typeface="Calibri"/>
              </a:rPr>
              <a:t>-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84204"/>
                </a:solidFill>
                <a:latin typeface="Calibri"/>
              </a:rPr>
              <a:t>грамотность и ее выразительность – одна из важных сторон общения людей друг с друго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42600" y="357120"/>
            <a:ext cx="7429320" cy="1000080"/>
          </a:xfrm>
          <a:prstGeom prst="rect">
            <a:avLst/>
          </a:prstGeom>
          <a:solidFill>
            <a:srgbClr val="f9b639"/>
          </a:solidFill>
          <a:ln w="2556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44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204"/>
                </a:solidFill>
                <a:latin typeface="Calibri"/>
              </a:rPr>
              <a:t>Сложные  предлож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6" name="Подзаголовок 2"/>
          <p:cNvGrpSpPr/>
          <p:nvPr/>
        </p:nvGrpSpPr>
        <p:grpSpPr>
          <a:xfrm>
            <a:off x="165240" y="1547640"/>
            <a:ext cx="2597040" cy="1702080"/>
            <a:chOff x="165240" y="1547640"/>
            <a:chExt cx="2597040" cy="1702080"/>
          </a:xfrm>
        </p:grpSpPr>
        <p:pic>
          <p:nvPicPr>
            <p:cNvPr id="497" name="Подзаголовок 2" descr=""/>
            <p:cNvPicPr/>
            <p:nvPr/>
          </p:nvPicPr>
          <p:blipFill>
            <a:blip r:embed="rId1"/>
            <a:stretch/>
          </p:blipFill>
          <p:spPr>
            <a:xfrm>
              <a:off x="165240" y="1547640"/>
              <a:ext cx="2597040" cy="17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285840" y="1643040"/>
              <a:ext cx="235728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984204"/>
                  </a:solidFill>
                  <a:latin typeface="Calibri"/>
                </a:rPr>
                <a:t>Сложносочиненные предолжения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499" name="Прямая со стрелкой 4"/>
          <p:cNvCxnSpPr/>
          <p:nvPr/>
        </p:nvCxnSpPr>
        <p:spPr>
          <a:xfrm flipH="1">
            <a:off x="1213560" y="1141920"/>
            <a:ext cx="1143720" cy="42948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500" name="Прямая со стрелкой 6"/>
          <p:cNvCxnSpPr/>
          <p:nvPr/>
        </p:nvCxnSpPr>
        <p:spPr>
          <a:xfrm flipH="1">
            <a:off x="4355280" y="1143000"/>
            <a:ext cx="2520" cy="57240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501" name="Прямая со стрелкой 8"/>
          <p:cNvCxnSpPr/>
          <p:nvPr/>
        </p:nvCxnSpPr>
        <p:spPr>
          <a:xfrm>
            <a:off x="5857560" y="1142640"/>
            <a:ext cx="1429560" cy="42948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grpSp>
        <p:nvGrpSpPr>
          <p:cNvPr id="502" name="TextBox 11"/>
          <p:cNvGrpSpPr/>
          <p:nvPr/>
        </p:nvGrpSpPr>
        <p:grpSpPr>
          <a:xfrm>
            <a:off x="2835360" y="1695600"/>
            <a:ext cx="3363840" cy="1023840"/>
            <a:chOff x="2835360" y="1695600"/>
            <a:chExt cx="3363840" cy="1023840"/>
          </a:xfrm>
        </p:grpSpPr>
        <p:pic>
          <p:nvPicPr>
            <p:cNvPr id="503" name="TextBox 11" descr=""/>
            <p:cNvPicPr/>
            <p:nvPr/>
          </p:nvPicPr>
          <p:blipFill>
            <a:blip r:embed="rId2"/>
            <a:stretch/>
          </p:blipFill>
          <p:spPr>
            <a:xfrm>
              <a:off x="2835360" y="1695600"/>
              <a:ext cx="33638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3000240" y="1785960"/>
              <a:ext cx="3071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984204"/>
                  </a:solidFill>
                  <a:latin typeface="Calibri"/>
                </a:rPr>
                <a:t>Сложноподчиненные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984204"/>
                  </a:solidFill>
                  <a:latin typeface="Calibri"/>
                </a:rPr>
                <a:t>предложения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5" name="TextBox 13"/>
          <p:cNvGrpSpPr/>
          <p:nvPr/>
        </p:nvGrpSpPr>
        <p:grpSpPr>
          <a:xfrm>
            <a:off x="6267600" y="1620720"/>
            <a:ext cx="2955600" cy="1397160"/>
            <a:chOff x="6267600" y="1620720"/>
            <a:chExt cx="2955600" cy="1397160"/>
          </a:xfrm>
        </p:grpSpPr>
        <p:pic>
          <p:nvPicPr>
            <p:cNvPr id="506" name="TextBox 13" descr=""/>
            <p:cNvPicPr/>
            <p:nvPr/>
          </p:nvPicPr>
          <p:blipFill>
            <a:blip r:embed="rId3"/>
            <a:stretch/>
          </p:blipFill>
          <p:spPr>
            <a:xfrm>
              <a:off x="6267600" y="1620720"/>
              <a:ext cx="295560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6429240" y="1714680"/>
              <a:ext cx="2714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984204"/>
                  </a:solidFill>
                  <a:latin typeface="Calibri"/>
                </a:rPr>
                <a:t>Бессоюзные сложные предложения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8" name="Рисунок 9" descr="images.jpeg"/>
          <p:cNvPicPr/>
          <p:nvPr/>
        </p:nvPicPr>
        <p:blipFill>
          <a:blip r:embed="rId4"/>
          <a:stretch/>
        </p:blipFill>
        <p:spPr>
          <a:xfrm>
            <a:off x="1643040" y="3286080"/>
            <a:ext cx="5715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56760" y="285480"/>
            <a:ext cx="821556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 u="sng">
                <a:solidFill>
                  <a:srgbClr val="984204"/>
                </a:solidFill>
                <a:uFillTx/>
                <a:latin typeface="Calibri"/>
              </a:rPr>
              <a:t>Сложносочиненное предложение </a:t>
            </a:r>
            <a:r>
              <a:rPr b="0" lang="ru-RU" sz="2900" spc="-1" strike="noStrike">
                <a:solidFill>
                  <a:srgbClr val="984204"/>
                </a:solidFill>
                <a:latin typeface="Calibri"/>
              </a:rPr>
              <a:t>– это сложное союзное предложение, части которого равноправны и связаны сочинительной связью с помощью интонации и сочинительных союзов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21420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984204"/>
                </a:solidFill>
                <a:uFillTx/>
                <a:latin typeface="Calibri"/>
              </a:rPr>
              <a:t> </a:t>
            </a:r>
            <a:r>
              <a:rPr b="1" i="1" lang="ru-RU" sz="3200" spc="-1" strike="noStrike" u="sng">
                <a:solidFill>
                  <a:srgbClr val="984204"/>
                </a:solidFill>
                <a:uFillTx/>
                <a:latin typeface="Calibri"/>
              </a:rPr>
              <a:t>Сложноподчиненное предложение </a:t>
            </a:r>
            <a:r>
              <a:rPr b="0" lang="ru-RU" sz="3200" spc="-1" strike="noStrike">
                <a:solidFill>
                  <a:srgbClr val="984204"/>
                </a:solidFill>
                <a:latin typeface="Calibri"/>
              </a:rPr>
              <a:t>– это сложное союзное предложение , части которого соединены подчинительной связью, т. е. одна является главной (независимой), а другая – придаточной (зависимой , подчиненной главной по смыслу и грамматически)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Заголовок 1" descr=""/>
          <p:cNvPicPr/>
          <p:nvPr/>
        </p:nvPicPr>
        <p:blipFill>
          <a:blip r:embed="rId1"/>
          <a:stretch/>
        </p:blipFill>
        <p:spPr>
          <a:xfrm>
            <a:off x="987480" y="237960"/>
            <a:ext cx="7504200" cy="944640"/>
          </a:xfrm>
          <a:prstGeom prst="rect">
            <a:avLst/>
          </a:prstGeom>
          <a:ln w="0">
            <a:noFill/>
          </a:ln>
        </p:spPr>
      </p:pic>
      <p:grpSp>
        <p:nvGrpSpPr>
          <p:cNvPr id="512" name="Подзаголовок 2"/>
          <p:cNvGrpSpPr/>
          <p:nvPr/>
        </p:nvGrpSpPr>
        <p:grpSpPr>
          <a:xfrm>
            <a:off x="60480" y="1335240"/>
            <a:ext cx="1804680" cy="2481120"/>
            <a:chOff x="60480" y="1335240"/>
            <a:chExt cx="1804680" cy="2481120"/>
          </a:xfrm>
        </p:grpSpPr>
        <p:pic>
          <p:nvPicPr>
            <p:cNvPr id="513" name="Подзаголовок 2" descr=""/>
            <p:cNvPicPr/>
            <p:nvPr/>
          </p:nvPicPr>
          <p:blipFill>
            <a:blip r:embed="rId2"/>
            <a:stretch/>
          </p:blipFill>
          <p:spPr>
            <a:xfrm>
              <a:off x="60480" y="1335240"/>
              <a:ext cx="1804680" cy="24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214200" y="1428840"/>
              <a:ext cx="150048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898989"/>
                  </a:solidFill>
                  <a:latin typeface="Calibri"/>
                </a:rPr>
                <a:t>с придаточными </a:t>
              </a:r>
              <a:r>
                <a:rPr b="1" lang="ru-RU" sz="2400" spc="-1" strike="noStrike">
                  <a:solidFill>
                    <a:srgbClr val="898989"/>
                  </a:solidFill>
                  <a:latin typeface="Calibri"/>
                </a:rPr>
                <a:t>определительными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15" name="Прямая со стрелкой 4"/>
          <p:cNvCxnSpPr/>
          <p:nvPr/>
        </p:nvCxnSpPr>
        <p:spPr>
          <a:xfrm flipH="1">
            <a:off x="999720" y="928800"/>
            <a:ext cx="3286800" cy="64332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516" name="Прямая со стрелкой 7"/>
          <p:cNvCxnSpPr/>
          <p:nvPr/>
        </p:nvCxnSpPr>
        <p:spPr>
          <a:xfrm flipH="1">
            <a:off x="2785320" y="928800"/>
            <a:ext cx="1500840" cy="71496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grpSp>
        <p:nvGrpSpPr>
          <p:cNvPr id="517" name="TextBox 9"/>
          <p:cNvGrpSpPr/>
          <p:nvPr/>
        </p:nvGrpSpPr>
        <p:grpSpPr>
          <a:xfrm>
            <a:off x="1908000" y="1474920"/>
            <a:ext cx="2170440" cy="2139840"/>
            <a:chOff x="1908000" y="1474920"/>
            <a:chExt cx="2170440" cy="2139840"/>
          </a:xfrm>
        </p:grpSpPr>
        <p:pic>
          <p:nvPicPr>
            <p:cNvPr id="518" name="TextBox 9" descr=""/>
            <p:cNvPicPr/>
            <p:nvPr/>
          </p:nvPicPr>
          <p:blipFill>
            <a:blip r:embed="rId3"/>
            <a:stretch/>
          </p:blipFill>
          <p:spPr>
            <a:xfrm>
              <a:off x="1908000" y="1474920"/>
              <a:ext cx="2170440" cy="21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2071800" y="1571760"/>
              <a:ext cx="18572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с придаточными </a:t>
              </a: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изъяснительными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20" name="Прямая со стрелкой 11"/>
          <p:cNvCxnSpPr/>
          <p:nvPr/>
        </p:nvCxnSpPr>
        <p:spPr>
          <a:xfrm flipH="1">
            <a:off x="4857480" y="999720"/>
            <a:ext cx="2160" cy="71532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grpSp>
        <p:nvGrpSpPr>
          <p:cNvPr id="521" name="TextBox 12"/>
          <p:cNvGrpSpPr/>
          <p:nvPr/>
        </p:nvGrpSpPr>
        <p:grpSpPr>
          <a:xfrm>
            <a:off x="3833640" y="1547640"/>
            <a:ext cx="2530800" cy="1768680"/>
            <a:chOff x="3833640" y="1547640"/>
            <a:chExt cx="2530800" cy="1768680"/>
          </a:xfrm>
        </p:grpSpPr>
        <p:pic>
          <p:nvPicPr>
            <p:cNvPr id="522" name="TextBox 12" descr=""/>
            <p:cNvPicPr/>
            <p:nvPr/>
          </p:nvPicPr>
          <p:blipFill>
            <a:blip r:embed="rId4"/>
            <a:stretch/>
          </p:blipFill>
          <p:spPr>
            <a:xfrm>
              <a:off x="3833640" y="1547640"/>
              <a:ext cx="2530800" cy="17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4000680" y="1643040"/>
              <a:ext cx="221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с придаточными </a:t>
              </a: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обстоятельственными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24" name="Прямая со стрелкой 14"/>
          <p:cNvCxnSpPr/>
          <p:nvPr/>
        </p:nvCxnSpPr>
        <p:spPr>
          <a:xfrm>
            <a:off x="5000400" y="1000080"/>
            <a:ext cx="2500920" cy="64332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grpSp>
        <p:nvGrpSpPr>
          <p:cNvPr id="525" name="TextBox 15"/>
          <p:cNvGrpSpPr/>
          <p:nvPr/>
        </p:nvGrpSpPr>
        <p:grpSpPr>
          <a:xfrm>
            <a:off x="6620040" y="1474920"/>
            <a:ext cx="2530440" cy="1768320"/>
            <a:chOff x="6620040" y="1474920"/>
            <a:chExt cx="2530440" cy="1768320"/>
          </a:xfrm>
        </p:grpSpPr>
        <p:pic>
          <p:nvPicPr>
            <p:cNvPr id="526" name="TextBox 15" descr=""/>
            <p:cNvPicPr/>
            <p:nvPr/>
          </p:nvPicPr>
          <p:blipFill>
            <a:blip r:embed="rId5"/>
            <a:stretch/>
          </p:blipFill>
          <p:spPr>
            <a:xfrm>
              <a:off x="6620040" y="1474920"/>
              <a:ext cx="253044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6786720" y="1571760"/>
              <a:ext cx="2143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с придаточными </a:t>
              </a: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присоединительными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28" name="Прямая со стрелкой 17"/>
          <p:cNvCxnSpPr/>
          <p:nvPr/>
        </p:nvCxnSpPr>
        <p:spPr>
          <a:xfrm flipH="1">
            <a:off x="4928400" y="3071880"/>
            <a:ext cx="2520" cy="64332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sp>
        <p:nvSpPr>
          <p:cNvPr id="529" name="TextBox 18"/>
          <p:cNvSpPr/>
          <p:nvPr/>
        </p:nvSpPr>
        <p:spPr>
          <a:xfrm>
            <a:off x="4143240" y="3714840"/>
            <a:ext cx="214344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9b63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раза действия  и степе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с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лов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чин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л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равн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уп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едств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28800" y="428400"/>
            <a:ext cx="748656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204"/>
                </a:solidFill>
                <a:latin typeface="Calibri"/>
              </a:rPr>
              <a:t>Придаточные определительны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214200" y="1571760"/>
            <a:ext cx="8358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Они относятся к существительному или другому слову, употребленному в значении существительного, в главной части, давая ему характеристику или раскрывая призна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К придаточным определительным от главного предложения ставятся вопросы </a:t>
            </a: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какой? какая? како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Союзные слова: кто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, что, какой, чей, когда, где и др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Указательные слова: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такой, тот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Пример: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Петя подошел к тому месту, </a:t>
            </a:r>
            <a:r>
              <a:rPr b="0" i="1" lang="ru-RU" sz="2400" spc="-1" strike="noStrike">
                <a:solidFill>
                  <a:srgbClr val="984204"/>
                </a:solidFill>
                <a:latin typeface="Calibri"/>
              </a:rPr>
              <a:t>откуда слышались выстрел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204"/>
                </a:solidFill>
                <a:latin typeface="Calibri"/>
              </a:rPr>
              <a:t>Придаточные изъяснительны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5000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Они относятся к словам со значением речи, мысли и чувства(глаголу, наречию, отглагольному существительному, краткой форме прилагательного и др.) в главной части, уточняя или поясняя смысл этих слов. Придаточные изъяснительные отвечают на вопросы </a:t>
            </a: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косвенных падеж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Союзы: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что, как, будто, как будто, чтоб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Союзные слова: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что, кто, когда, где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Частица: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Указательное слово: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т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Пример: 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Он говорил о лете и том, </a:t>
            </a:r>
            <a:r>
              <a:rPr b="0" i="1" lang="ru-RU" sz="2400" spc="-1" strike="noStrike">
                <a:solidFill>
                  <a:srgbClr val="984204"/>
                </a:solidFill>
                <a:latin typeface="Calibri"/>
              </a:rPr>
              <a:t>что быть поэтом женщине – нелеп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204"/>
                </a:solidFill>
                <a:latin typeface="Calibri"/>
              </a:rPr>
              <a:t>Придаточные обстоятельственны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204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Они отвечают на вопросы обстоятельств. Эти вопросы задаются от всего главного предложения или от состава сказуемого. По соотношению с членами предложения выделяются обстоятельственные придаточные места, времени, причины, следствия, образа действия и степени, сравнения, цели, условия, уступ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Пример: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Он вернулся домой, </a:t>
            </a:r>
            <a:r>
              <a:rPr b="0" i="1" lang="ru-RU" sz="2400" spc="-1" strike="noStrike">
                <a:solidFill>
                  <a:srgbClr val="984204"/>
                </a:solidFill>
                <a:latin typeface="Calibri"/>
              </a:rPr>
              <a:t>когда его перестали уже жда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204"/>
                </a:solidFill>
                <a:latin typeface="Calibri"/>
              </a:rPr>
              <a:t>Придаточные присоединительны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Они выражают дополнительные сообщения относительно содержания главной ча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Придаточные присоединительные относятся ко всей главной части, к ним нельзя поставить вопро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Союзные слова: что, почему, отчего, зачем и т. 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Придаточная часть, как правило, стоит после главн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Пример: Вставая поутру, француз пил целебный бальзам, </a:t>
            </a:r>
            <a:r>
              <a:rPr b="0" i="1" lang="ru-RU" sz="2400" spc="-1" strike="noStrike">
                <a:solidFill>
                  <a:srgbClr val="984204"/>
                </a:solidFill>
                <a:latin typeface="Calibri"/>
              </a:rPr>
              <a:t>отчего он и веселе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06:42:51Z</dcterms:created>
  <dc:creator>Samsung</dc:creator>
  <dc:description/>
  <dc:language>en-US</dc:language>
  <cp:lastModifiedBy>info</cp:lastModifiedBy>
  <dcterms:modified xsi:type="dcterms:W3CDTF">2010-05-24T10:13:44Z</dcterms:modified>
  <cp:revision>26</cp:revision>
  <dc:subject/>
  <dc:title>Какие виды сложных предложений вам известны?</dc:title>
</cp:coreProperties>
</file>